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026-0B90-49D4-BD4C-D1D32BC9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79BA-6584-4D2E-B2D2-03714591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C5F-8470-4839-9E30-9D6F0E9D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287-1ABF-49BB-A793-AF1623E3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177D-4FAE-4EF1-A356-8A4998DE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7EDA-313B-4C27-B745-FC87D008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B01A-15EA-4018-8F7A-A8EFD06D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ACFF-EBF0-41FC-A733-B64FC3F4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EC09-0A8F-4080-A71B-F75F033B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50F8-4625-48AB-BB07-94712C48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AC75-CC55-4273-87A9-23CA3934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FEF-B124-490C-85D0-C1781399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ACC1-6715-4EEC-AA0C-E4610ED2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89CD-07DB-431B-ABCC-A7BB527E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A883-7AD7-406D-9416-7A016A50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2607-E269-4FDB-A625-F54C4C0F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A9C0-4EEB-4CA2-85E7-5EC0EF953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D73-C011-4D05-A5C5-72949654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BD3-7F34-4170-A7D8-C08B1F22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A49-68A4-4F69-8571-85F7F5C9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5A5-6FAE-478F-B2CA-ABAC7550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FD5-5453-4A50-A4FF-BC70EA63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E37-6F2B-4101-AECD-DD44F6BD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E77F-2205-46BB-BB74-AEBF3F5F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23FF-9CB9-4193-8F9A-3C2AA91E3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C149-03A5-45E6-B9FE-20F1429BA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MOD: System Architecture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Adaptors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05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11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657600"/>
            <a:ext cx="2590560" cy="6858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ed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4280" y="3657600"/>
            <a:ext cx="2590920" cy="685800"/>
          </a:xfrm>
          <a:prstGeom prst="rect">
            <a:avLst/>
          </a:prstGeom>
          <a:solidFill>
            <a:srgbClr val="f5a2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an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Xchange Format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28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34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3581280"/>
            <a:ext cx="38862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eige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Service Architecture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50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56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4343400"/>
            <a:ext cx="4572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343400"/>
            <a:ext cx="22068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133360" y="2590920"/>
            <a:ext cx="29718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2057400" y="2666520"/>
            <a:ext cx="17524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Ge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u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4343400"/>
            <a:ext cx="14400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657240" y="4343400"/>
            <a:ext cx="160020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962520" y="2590920"/>
            <a:ext cx="13716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657600" y="2666520"/>
            <a:ext cx="3808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267080" y="2742840"/>
            <a:ext cx="76212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495680" y="2666520"/>
            <a:ext cx="205740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r installation &amp; integr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rectory struc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figuration fil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veloper extensibility &amp; maintainabilit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w do the modules interact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User installation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ackaging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pendencies, updates, versio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EADME &amp; HOWTO fil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ite-specific vs common configurat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edictable directory structur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User support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ug tracking &amp; feature reques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Times New Roman"/>
              </a:rPr>
              <a:t>How do the Modules Interact?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9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988320" y="3760920"/>
            <a:ext cx="1317600" cy="810720"/>
            <a:chOff x="6988320" y="3760920"/>
            <a:chExt cx="1317600" cy="810720"/>
          </a:xfrm>
        </p:grpSpPr>
        <p:sp>
          <p:nvSpPr>
            <p:cNvPr id="94" name=""/>
            <p:cNvSpPr/>
            <p:nvPr/>
          </p:nvSpPr>
          <p:spPr>
            <a:xfrm>
              <a:off x="6988320" y="4167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8320" y="4032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8320" y="38955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88320" y="37609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371600" y="3352680"/>
            <a:ext cx="917280" cy="1429920"/>
            <a:chOff x="1371600" y="3352680"/>
            <a:chExt cx="917280" cy="1429920"/>
          </a:xfrm>
        </p:grpSpPr>
        <p:sp>
          <p:nvSpPr>
            <p:cNvPr id="99" name=""/>
            <p:cNvSpPr/>
            <p:nvPr/>
          </p:nvSpPr>
          <p:spPr>
            <a:xfrm>
              <a:off x="1371600" y="335268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8520" y="359172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4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7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454800" y="2236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25800" y="2313000"/>
            <a:ext cx="1317600" cy="810720"/>
            <a:chOff x="3025800" y="2313000"/>
            <a:chExt cx="1317600" cy="810720"/>
          </a:xfrm>
        </p:grpSpPr>
        <p:sp>
          <p:nvSpPr>
            <p:cNvPr id="105" name=""/>
            <p:cNvSpPr/>
            <p:nvPr/>
          </p:nvSpPr>
          <p:spPr>
            <a:xfrm>
              <a:off x="3025800" y="2719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25800" y="2584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25800" y="24476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25800" y="23130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59320" y="4827600"/>
            <a:ext cx="1317600" cy="810720"/>
            <a:chOff x="3559320" y="4827600"/>
            <a:chExt cx="1317600" cy="810720"/>
          </a:xfrm>
        </p:grpSpPr>
        <p:sp>
          <p:nvSpPr>
            <p:cNvPr id="110" name=""/>
            <p:cNvSpPr/>
            <p:nvPr/>
          </p:nvSpPr>
          <p:spPr>
            <a:xfrm>
              <a:off x="3559320" y="5233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9320" y="5098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59320" y="49622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59320" y="48276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68400" y="53611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49680" y="34560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438280" y="4038480"/>
            <a:ext cx="1958760" cy="1008360"/>
            <a:chOff x="2438280" y="4038480"/>
            <a:chExt cx="1958760" cy="1008360"/>
          </a:xfrm>
        </p:grpSpPr>
        <p:sp>
          <p:nvSpPr>
            <p:cNvPr id="117" name=""/>
            <p:cNvSpPr/>
            <p:nvPr/>
          </p:nvSpPr>
          <p:spPr>
            <a:xfrm>
              <a:off x="2438280" y="4079520"/>
              <a:ext cx="1958760" cy="9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4440" y="4038480"/>
              <a:ext cx="51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2263320" y="5078520"/>
            <a:ext cx="1219320" cy="4078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55840" y="490392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49880" y="3983040"/>
            <a:ext cx="685800" cy="1602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49880" y="307512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06520" y="4522680"/>
            <a:ext cx="1219320" cy="1008360"/>
            <a:chOff x="5006520" y="4522680"/>
            <a:chExt cx="1219320" cy="1008360"/>
          </a:xfrm>
        </p:grpSpPr>
        <p:sp>
          <p:nvSpPr>
            <p:cNvPr id="124" name=""/>
            <p:cNvSpPr/>
            <p:nvPr/>
          </p:nvSpPr>
          <p:spPr>
            <a:xfrm flipH="1">
              <a:off x="5006520" y="4697280"/>
              <a:ext cx="1219320" cy="407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437440" y="4522680"/>
              <a:ext cx="69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>
            <a:off x="6759720" y="4675320"/>
            <a:ext cx="838080" cy="8190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57280" y="4675320"/>
            <a:ext cx="65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549320" y="261792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61680" y="1752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2880" y="3151080"/>
            <a:ext cx="152640" cy="5335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07160" y="292248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514600" y="2770200"/>
            <a:ext cx="434880" cy="7351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69400" y="2895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320" y="1552680"/>
            <a:ext cx="1828800" cy="1724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600200"/>
            <a:ext cx="7772400" cy="487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562720" y="2590920"/>
            <a:ext cx="25905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294920" y="2590920"/>
            <a:ext cx="2590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y Integrated MOD Applic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43360" y="3392280"/>
            <a:ext cx="0" cy="175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84560" y="4203720"/>
            <a:ext cx="1317600" cy="404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4560" y="406872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84560" y="3932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84560" y="3797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284720" y="1905120"/>
            <a:ext cx="917280" cy="1429920"/>
            <a:chOff x="4284720" y="1905120"/>
            <a:chExt cx="917280" cy="1429920"/>
          </a:xfrm>
        </p:grpSpPr>
        <p:sp>
          <p:nvSpPr>
            <p:cNvPr id="145" name=""/>
            <p:cNvSpPr/>
            <p:nvPr/>
          </p:nvSpPr>
          <p:spPr>
            <a:xfrm>
              <a:off x="4284720" y="190512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1640" y="214416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7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382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940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008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24120" y="4743360"/>
            <a:ext cx="65880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204880" y="4743360"/>
            <a:ext cx="65916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Vertical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6696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816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816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0816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816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07960" y="2286000"/>
            <a:ext cx="917280" cy="1429920"/>
            <a:chOff x="1407960" y="2286000"/>
            <a:chExt cx="917280" cy="1429920"/>
          </a:xfrm>
        </p:grpSpPr>
        <p:sp>
          <p:nvSpPr>
            <p:cNvPr id="164" name=""/>
            <p:cNvSpPr/>
            <p:nvPr/>
          </p:nvSpPr>
          <p:spPr>
            <a:xfrm>
              <a:off x="140796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1488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01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4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143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133720"/>
            <a:ext cx="175284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8648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27320" y="4584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27320" y="4449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27320" y="4313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7320" y="4178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227480" y="2286000"/>
            <a:ext cx="917280" cy="1429920"/>
            <a:chOff x="4227480" y="2286000"/>
            <a:chExt cx="917280" cy="1429920"/>
          </a:xfrm>
        </p:grpSpPr>
        <p:sp>
          <p:nvSpPr>
            <p:cNvPr id="176" name=""/>
            <p:cNvSpPr/>
            <p:nvPr/>
          </p:nvSpPr>
          <p:spPr>
            <a:xfrm>
              <a:off x="422748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3440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20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43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6252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0564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684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4684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684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4684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047000" y="2286000"/>
            <a:ext cx="917280" cy="1429920"/>
            <a:chOff x="7047000" y="2286000"/>
            <a:chExt cx="917280" cy="1429920"/>
          </a:xfrm>
        </p:grpSpPr>
        <p:sp>
          <p:nvSpPr>
            <p:cNvPr id="188" name=""/>
            <p:cNvSpPr/>
            <p:nvPr/>
          </p:nvSpPr>
          <p:spPr>
            <a:xfrm>
              <a:off x="704700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5392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0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63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8168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200" y="170964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2720" y="171468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14840" y="171468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H="1" flipV="1">
            <a:off x="1828440" y="2971800"/>
            <a:ext cx="1143000" cy="1905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190760" y="4266720"/>
            <a:ext cx="106668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derated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00480" y="3352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33440" y="5029200"/>
            <a:ext cx="1317960" cy="810720"/>
            <a:chOff x="2233440" y="5029200"/>
            <a:chExt cx="1317960" cy="810720"/>
          </a:xfrm>
        </p:grpSpPr>
        <p:sp>
          <p:nvSpPr>
            <p:cNvPr id="201" name=""/>
            <p:cNvSpPr/>
            <p:nvPr/>
          </p:nvSpPr>
          <p:spPr>
            <a:xfrm>
              <a:off x="2233440" y="5435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33440" y="5300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3440" y="516384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33440" y="502920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724280" y="1371600"/>
            <a:ext cx="917280" cy="1429920"/>
            <a:chOff x="4724280" y="1371600"/>
            <a:chExt cx="917280" cy="1429920"/>
          </a:xfrm>
        </p:grpSpPr>
        <p:sp>
          <p:nvSpPr>
            <p:cNvPr id="206" name=""/>
            <p:cNvSpPr/>
            <p:nvPr/>
          </p:nvSpPr>
          <p:spPr>
            <a:xfrm>
              <a:off x="4724280" y="13716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31200" y="161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7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40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662440" y="3352680"/>
            <a:ext cx="144972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5958000"/>
            <a:ext cx="146700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50160" y="5958000"/>
            <a:ext cx="1907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9600" y="5958000"/>
            <a:ext cx="1610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633920" y="5029200"/>
            <a:ext cx="1317600" cy="810720"/>
            <a:chOff x="4633920" y="5029200"/>
            <a:chExt cx="1317600" cy="810720"/>
          </a:xfrm>
        </p:grpSpPr>
        <p:sp>
          <p:nvSpPr>
            <p:cNvPr id="215" name=""/>
            <p:cNvSpPr/>
            <p:nvPr/>
          </p:nvSpPr>
          <p:spPr>
            <a:xfrm>
              <a:off x="4633920" y="5435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33920" y="5300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33920" y="516384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33920" y="502920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034040" y="5029200"/>
            <a:ext cx="1317960" cy="810720"/>
            <a:chOff x="7034040" y="5029200"/>
            <a:chExt cx="1317960" cy="810720"/>
          </a:xfrm>
        </p:grpSpPr>
        <p:sp>
          <p:nvSpPr>
            <p:cNvPr id="220" name=""/>
            <p:cNvSpPr/>
            <p:nvPr/>
          </p:nvSpPr>
          <p:spPr>
            <a:xfrm>
              <a:off x="7034040" y="5435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4040" y="5300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4040" y="516384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4040" y="502920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57200" y="2209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523880" y="4038480"/>
            <a:ext cx="99072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28640" y="4191120"/>
            <a:ext cx="25146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562720" y="4191120"/>
            <a:ext cx="838080" cy="76176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4191120"/>
            <a:ext cx="6858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724280" y="4038480"/>
            <a:ext cx="2286000" cy="990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33412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24080" y="4267080"/>
            <a:ext cx="533520" cy="6098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URL Link Integration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6696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816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816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816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0816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407960" y="3689280"/>
            <a:ext cx="917280" cy="1025280"/>
            <a:chOff x="1407960" y="3689280"/>
            <a:chExt cx="917280" cy="1025280"/>
          </a:xfrm>
        </p:grpSpPr>
        <p:sp>
          <p:nvSpPr>
            <p:cNvPr id="242" name=""/>
            <p:cNvSpPr/>
            <p:nvPr/>
          </p:nvSpPr>
          <p:spPr>
            <a:xfrm>
              <a:off x="140796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488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1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24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14300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3657600"/>
            <a:ext cx="175284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8648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7320" y="533700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7320" y="524016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7320" y="514368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7320" y="504684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227480" y="3689280"/>
            <a:ext cx="917280" cy="1025280"/>
            <a:chOff x="4227480" y="3689280"/>
            <a:chExt cx="917280" cy="1025280"/>
          </a:xfrm>
        </p:grpSpPr>
        <p:sp>
          <p:nvSpPr>
            <p:cNvPr id="254" name=""/>
            <p:cNvSpPr/>
            <p:nvPr/>
          </p:nvSpPr>
          <p:spPr>
            <a:xfrm>
              <a:off x="422748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3440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20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43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96252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50564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4684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684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684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684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047000" y="3689280"/>
            <a:ext cx="917280" cy="1025280"/>
            <a:chOff x="7047000" y="3689280"/>
            <a:chExt cx="917280" cy="1025280"/>
          </a:xfrm>
        </p:grpSpPr>
        <p:sp>
          <p:nvSpPr>
            <p:cNvPr id="266" name=""/>
            <p:cNvSpPr/>
            <p:nvPr/>
          </p:nvSpPr>
          <p:spPr>
            <a:xfrm>
              <a:off x="704700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5392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40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63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78168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0200" y="320040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2720" y="320364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14840" y="320364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Cloud"/>
          <p:cNvSpPr/>
          <p:nvPr/>
        </p:nvSpPr>
        <p:spPr>
          <a:xfrm>
            <a:off x="2209680" y="1219320"/>
            <a:ext cx="4419720" cy="152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URL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3920" y="2827440"/>
            <a:ext cx="23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genome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1600" y="281952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stock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57760" y="28116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lit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Common Data Model &amp; API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1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122640" y="5208480"/>
            <a:ext cx="1317600" cy="811440"/>
            <a:chOff x="3122640" y="5208480"/>
            <a:chExt cx="1317600" cy="811440"/>
          </a:xfrm>
        </p:grpSpPr>
        <p:sp>
          <p:nvSpPr>
            <p:cNvPr id="283" name=""/>
            <p:cNvSpPr/>
            <p:nvPr/>
          </p:nvSpPr>
          <p:spPr>
            <a:xfrm>
              <a:off x="3122640" y="5614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2640" y="5479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2640" y="5343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22640" y="5208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018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089680" y="5208480"/>
            <a:ext cx="1317600" cy="811440"/>
            <a:chOff x="5089680" y="5208480"/>
            <a:chExt cx="1317600" cy="811440"/>
          </a:xfrm>
        </p:grpSpPr>
        <p:sp>
          <p:nvSpPr>
            <p:cNvPr id="289" name=""/>
            <p:cNvSpPr/>
            <p:nvPr/>
          </p:nvSpPr>
          <p:spPr>
            <a:xfrm>
              <a:off x="5089680" y="5614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89680" y="5479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89680" y="5343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89680" y="5208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440" y="4267080"/>
            <a:ext cx="0" cy="865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3560" y="4267080"/>
            <a:ext cx="0" cy="838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1760" y="3505320"/>
            <a:ext cx="3886200" cy="685800"/>
          </a:xfrm>
          <a:prstGeom prst="rect">
            <a:avLst/>
          </a:prstGeom>
          <a:solidFill>
            <a:srgbClr val="f1c58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mmon Schema/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037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39936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8:12:16Z</dcterms:modified>
  <cp:revision>560</cp:revision>
  <dc:subject/>
  <dc:title>Training</dc:title>
</cp:coreProperties>
</file>